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EF6-2E87-4E73-8493-D5084552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E95-45F3-4C1E-B721-78C7CDA9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191-973D-4822-9079-538A8290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21C-4F6B-4B53-AF6E-9F00A4CA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00C0-06E3-4498-95A7-913869C8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79EC-3915-46B4-BC7E-E7B01135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18BB-6F0A-497F-BCF6-50C0E06B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221F-7CFC-4E6D-8C66-029090BC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36E5-6A8B-4CB6-9C6E-25A9BEEF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C33E-8E27-4555-A0BF-C070AEE6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7308-0F15-4EF7-ABBF-C29EAEB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66A-D514-46BF-AE30-318DF3E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4589-3D00-4539-A2CA-ACD2668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3F1-5AAD-44A0-BB70-DC9B9E21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45BD-58E9-4493-99A9-862984A0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70C7-D846-4FD7-9074-3296A05B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F6BB-D355-4743-9516-F45AC0E4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976-DBE0-4817-8642-0A0681C5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6A1-31D1-48B9-B287-E54A673D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940-80F0-44A7-9442-0386191E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6C7-8974-47F5-A8D6-D794BCB4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3E4-0F7B-4DC2-B150-56DFA52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782-814E-4AC3-BE33-B9C0048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F0D-0262-4221-A4F4-06A4284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838D-EAAF-41A2-A3BB-0BB5A2BD5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12B2-7BBE-4768-B4BD-70D41AC23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al Exam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ing Engineering and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ultiple Choic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 is a situation that requires a solution to extend human capabilities and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 is a requirement necessary to solve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 is a Limitation given when trying to solve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are resources used to build a product or de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are devices used to construct a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is done when a force pushes or pulls an object, causing the object to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is the ability to d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energy is the energy an object has because of its 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n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__ energy is energy that is stored in an object because of its position, shape, or some other fe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n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are fossil fu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stru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Pencil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Name, Date, and Class Period on your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the appropriate answer on your sheet with the corresponding letter on the power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.  Which of the following are unlimited energy sour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vit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othe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are renewable energy sour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an/Animal Muscl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is a type of eng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rnal Combu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l Combu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cl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_ is an important input of a technology syst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ch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2 - 29.  Arrange the Problem Solving Steps in the correct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Model and Prototy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State Constraints and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Testing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. Defin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 Research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. Alternative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C E. Final Solution. Fin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Technology is any product or device that extends human capabilities or solves a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blem is a situation that requires us to create a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A constraint is the requirements necessary to solve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Criteria is the limits placed on a materials, or cost, in order to make a de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Work is the ability to move an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Energy is the power needed for us to do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Power is the output of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Fa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22:12:07Z</dcterms:created>
  <dc:creator>GSCS</dc:creator>
  <dc:description/>
  <dc:language>en-US</dc:language>
  <cp:lastModifiedBy>Johnson</cp:lastModifiedBy>
  <dcterms:modified xsi:type="dcterms:W3CDTF">2012-06-01T15:09:20Z</dcterms:modified>
  <cp:revision>6</cp:revision>
  <dc:subject/>
  <dc:title>Final Exam </dc:title>
</cp:coreProperties>
</file>